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F64-3CFA-4862-9971-ED4F4722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A20-AF89-459A-B6A8-A2606B0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1C2-208A-49C2-809B-70ED51AC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A86-6CCA-45C4-8967-7705E1B5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60D4-776E-422D-AE6E-73F0321B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4915-F6FD-4ECC-B972-C0A7C554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6C86-8CDD-4AD0-ADD7-29179CD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9832-FAB7-4643-9BE0-A48C5202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605E-DD54-41A6-8BE0-C439270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3502-2093-400B-819E-4A6624C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AE8A-E6B8-4A47-A068-F1BE033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700-E493-4DA4-8491-8A47DC9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D8B-A7F3-4305-B11A-2002F2A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D68-21CF-4DFD-BA57-4E60EA52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D998-65FD-43B6-BB15-F7E3E9E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BC77-953B-4D06-9E1B-3645C219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12A1-681F-4684-906E-E9EF78C7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691-F0C1-445B-9DEB-95BF67E6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961-D7E8-473C-A47A-CF50EA4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DEB-415A-4071-8836-E7295A7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612-57C9-49FC-9DDD-392CEDF3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7A5-6B53-4900-A233-717B76E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EB8-E131-4EE2-A143-B608057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6ED-70F6-4E4E-820C-C5CEAC1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09A7-4E3F-4D36-82CE-6D84E7145CC7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01FCA4-194B-4F1B-8A69-6AD46E4C0100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ES ORACIONAL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708280"/>
          <a:ext cx="8235360" cy="2733480"/>
        </p:xfrm>
        <a:graphic>
          <a:graphicData uri="http://schemas.openxmlformats.org/drawingml/2006/table">
            <a:tbl>
              <a:tblPr/>
              <a:tblGrid>
                <a:gridCol w="8235360"/>
              </a:tblGrid>
              <a:tr h="35200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modalidad, es decir, según la actitud del hablante, tanto en relación con el oyente como respecto a lo que dic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: DEFINICIÓN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628640"/>
          <a:ext cx="8235720" cy="4653000"/>
        </p:xfrm>
        <a:graphic>
          <a:graphicData uri="http://schemas.openxmlformats.org/drawingml/2006/table">
            <a:tbl>
              <a:tblPr/>
              <a:tblGrid>
                <a:gridCol w="8235720"/>
              </a:tblGrid>
              <a:tr h="51904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“modalidad”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odalidad indica la actitud del hablante, tanto en relación con el oyente como respecto a lo que dice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isamente, cuando hablamos del “modo” en los verbos (indicativo, subjuntivo, imperativo), también nos referimos a la actitud del hablante.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ó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0600" y="1447920"/>
          <a:ext cx="8453520" cy="50292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292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firmativa o negativa): el hablante informa sobre alg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á llovien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llamada también </a:t>
                      </a:r>
                      <a:r>
                        <a:rPr b="0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sider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: el hablante expresa un dese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jalá llovie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am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una emoción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Qué bien! ¡Gracias a Dios que llueve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bi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expresa duda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Quizá llueva mañana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realiza una pregunt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hor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orden o manda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5000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es de interrog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484280"/>
          <a:ext cx="8453520" cy="504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418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 la forma de preguntar más usual. Por ejemplo,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Está lloviend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in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 pregunta se plantea dentro de una oración subordinada, dependiendo de un verbo que indica entendimiento, sentido o lengua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No sé si lloverá esta tarde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tot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la que se responde con sí o no: por ejemplo,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“¿Has estudiado much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parcial: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 la que pregunta por circunstancias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A qué hora llegas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hort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53520" cy="48240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824000">
                <a:tc>
                  <a:txBody>
                    <a:bodyPr lIns="90000" rIns="90000" tIns="81000" bIns="46800" anchor="t">
                      <a:noAutofit/>
                    </a:bodyPr>
                    <a:p>
                      <a:pPr marL="90360" algn="ctr">
                        <a:lnSpc>
                          <a:spcPct val="123000"/>
                        </a:lnSpc>
                        <a:spcAft>
                          <a:spcPts val="1687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resan consejo, ruego, o mandato.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indicar ruego, consejo o sugerencia podemos emplear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onal simpl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indica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olamente en –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-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. Esta última posibilidad es muy form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ía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bérselo dich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e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mportarí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llart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Quisier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edirte un favor.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Expresión de la orden o mandat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484280"/>
          <a:ext cx="8717040" cy="4995720"/>
        </p:xfrm>
        <a:graphic>
          <a:graphicData uri="http://schemas.openxmlformats.org/drawingml/2006/table">
            <a:tbl>
              <a:tblPr/>
              <a:tblGrid>
                <a:gridCol w="8717040"/>
              </a:tblGrid>
              <a:tr h="49957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órdenes o prohibiciones) pueden tener forma afirmativa o negativ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mperativo solo tiene dos form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en segunda persona, y solamente en afirmaciones)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ú) –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vosotros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otras personas, o con negación, empleamos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e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ígam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persona singular, usted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lo hag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egunda persona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éntese a 100ºC durante 10 m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060640"/>
          <a:ext cx="8309160" cy="3960360"/>
        </p:xfrm>
        <a:graphic>
          <a:graphicData uri="http://schemas.openxmlformats.org/drawingml/2006/table">
            <a:tbl>
              <a:tblPr/>
              <a:tblGrid>
                <a:gridCol w="8309160"/>
              </a:tblGrid>
              <a:tr h="39603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posibl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ir oraciones de valor imperativo con el futur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rá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 que se te dice!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, e incluso el presente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ú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ce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o y no se hable má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 emplear el infini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oraciones exhortativas dirigidas a un público indeterminad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agua fría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 congel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spués de haber descongela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1757520"/>
          <a:ext cx="8453160" cy="4551120"/>
        </p:xfrm>
        <a:graphic>
          <a:graphicData uri="http://schemas.openxmlformats.org/drawingml/2006/table">
            <a:tbl>
              <a:tblPr/>
              <a:tblGrid>
                <a:gridCol w="8453160"/>
              </a:tblGrid>
              <a:tr h="45511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rec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nfinitivo en oraciones en situaciones coloquiales, precedido de la preposición </a:t>
                      </a:r>
                      <a:r>
                        <a:rPr b="1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¡Niños,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 dormi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podemos emplear diversa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frasis modales de obligación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con infinitiv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ienes que 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pla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y que recog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me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es hac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deberes antes de sal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s de comportarte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ejo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11:54:48Z</dcterms:modified>
  <cp:revision>28</cp:revision>
  <dc:subject/>
  <dc:title>ADECUACIÓN Textos orales y escritos </dc:title>
</cp:coreProperties>
</file>